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B07-7E58-45D6-9C9C-EB45BCF9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4E5-80F7-4457-95F6-CB56E0B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455-F573-4089-B0C8-0C7E11A3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695-4002-446E-B14F-F069208F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5D7-F15C-41D9-A050-4D39EE8E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F4D-13E6-4BBC-BAB5-9BCBF5D5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06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080" y="467064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584-C9EB-41D1-92F4-BF9D7DA7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5DC-F400-4D09-8AED-FE909D94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FC7-01B4-4CEF-B718-D613E22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973-005D-435D-8232-361231C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67064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DFB-C7A6-44F8-BCD4-5189288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67064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6E1-AF6B-4CCA-983D-EE34382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1D27A-AFA5-4C86-BFE2-4A849F048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33440" y="76320"/>
            <a:ext cx="6477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BIOLOGY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33"/>
                </a:solidFill>
                <a:latin typeface="Georgia"/>
                <a:ea typeface="ＭＳ Ｐゴシック"/>
              </a:rPr>
              <a:t>CONCEPTS &amp; CONN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ＭＳ Ｐゴシック"/>
              </a:rPr>
              <a:t>Fourth E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472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8600" y="19810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Neil A. Campbell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 Jane B. Reece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 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Lawrence G. Mitchell  </a:t>
            </a:r>
            <a:r>
              <a:rPr b="1" lang="en-US" sz="1600" spc="-1" strike="noStrike">
                <a:solidFill>
                  <a:srgbClr val="990000"/>
                </a:solidFill>
                <a:latin typeface="Georgia"/>
                <a:ea typeface="MS PGothic"/>
              </a:rPr>
              <a:t>• </a:t>
            </a:r>
            <a:r>
              <a:rPr b="1" lang="en-US" sz="1600" spc="-1" strike="noStrike">
                <a:solidFill>
                  <a:srgbClr val="cc6633"/>
                </a:solidFill>
                <a:latin typeface="Georgia"/>
                <a:ea typeface="MS PGothic"/>
              </a:rPr>
              <a:t> Martha R. Tayl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802880" y="6095880"/>
            <a:ext cx="55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From PowerPoint</a:t>
            </a:r>
            <a:r>
              <a:rPr b="0" lang="en-US" sz="1400" spc="-1" strike="noStrike" baseline="30000">
                <a:solidFill>
                  <a:srgbClr val="990000"/>
                </a:solidFill>
                <a:latin typeface="Georgia"/>
                <a:ea typeface="MS PGothic"/>
              </a:rPr>
              <a:t>®</a:t>
            </a:r>
            <a:r>
              <a:rPr b="0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 Lectures for </a:t>
            </a:r>
            <a:r>
              <a:rPr b="0" i="1" lang="en-US" sz="1400" spc="-1" strike="noStrike">
                <a:solidFill>
                  <a:srgbClr val="990000"/>
                </a:solidFill>
                <a:latin typeface="Georgia"/>
                <a:ea typeface="MS PGothic"/>
              </a:rPr>
              <a:t>Biology: Concepts &amp; Connec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8640" y="2130120"/>
            <a:ext cx="881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 Test Evolution/Classifcation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What causes evolution?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981080"/>
            <a:ext cx="853416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ottleneck Effec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nder Effec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 Flow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ut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66760" y="1295280"/>
            <a:ext cx="36957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Genetic drif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a change in a gene pool due to ch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tic drift can 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bottleneck effec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event that drastically reduces population size (fire, flood, earthquake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2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6" descr="_x001e_13-11A-BottleneckEffect-NL.gif                                 0000002A_x001a_BiologyConcepts4eCIPL_8-15     B9599A75:"/>
          <p:cNvPicPr/>
          <p:nvPr/>
        </p:nvPicPr>
        <p:blipFill>
          <a:blip r:embed="rId1"/>
          <a:srcRect l="0" t="0" r="0" b="4661"/>
          <a:stretch/>
        </p:blipFill>
        <p:spPr>
          <a:xfrm>
            <a:off x="4419720" y="1828800"/>
            <a:ext cx="4343400" cy="3444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423320" y="5257800"/>
            <a:ext cx="95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igin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097320" y="5257800"/>
            <a:ext cx="11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ottleneck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876080" y="5257800"/>
            <a:ext cx="95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rviv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Genetic drift…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980720"/>
            <a:ext cx="853416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f a population is very diverse and something bad happens, at least a few individuals will surviv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se individuals will then reproduce and the species will evolve, or chang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founder effec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when some individuals leave a population and start living somewhere new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y a few people or animals leave, and the new population will be closely related to due lack of genetic diversit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73760" y="563868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1B,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_x0018_13-11B-ElephantSeals.jpg                                       0000002A_x001a_BiologyConcepts4eCIPL_8-15     B9599A75:"/>
          <p:cNvPicPr/>
          <p:nvPr/>
        </p:nvPicPr>
        <p:blipFill>
          <a:blip r:embed="rId1"/>
          <a:stretch/>
        </p:blipFill>
        <p:spPr>
          <a:xfrm>
            <a:off x="304920" y="3581280"/>
            <a:ext cx="4114800" cy="2766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_x0019_13-11C-TristanDaCunha.jpg                                      0000002A_x001a_BiologyConcepts4eCIPL_8-15     B9599A75:"/>
          <p:cNvPicPr/>
          <p:nvPr/>
        </p:nvPicPr>
        <p:blipFill>
          <a:blip r:embed="rId2"/>
          <a:stretch/>
        </p:blipFill>
        <p:spPr>
          <a:xfrm>
            <a:off x="4572000" y="3581280"/>
            <a:ext cx="40449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583920"/>
            <a:ext cx="86104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Gene flow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can change a gene pool due to the movement of genes into or out of a population (new organisms move in or leave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2514600"/>
            <a:ext cx="861048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uta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anges alleles, these are random changes in DNA that can create new proteins or new characterist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153280" cy="52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howing that evolution has to happen by showing that characteristics in nature are always changing..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ardy-Weinberg equilibrium states that the shuffling of genes during sexual reproduction does not alter the proportions of different alleles in a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opulations are always evolving and not usually in equilibrium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5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8  Hardy-Weinberg Equilibrium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48640" cy="483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population is very lar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population is isolat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utations do not alter the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ting is rando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ll individuals are equal in reproductive succes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***This does not happen in nature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25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10  Five conditions are required for Hardy-Weinberg equilibrium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The Equa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98072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+ 2pq + 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p + q = 1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 = frequency of the dominant allele in the population (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 = frequency of the recessive allele in the population (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percentage of homozygous dominant individuals (A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percentage of homozygous recessive individuals (a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pq = percentage of heterozygous individuals (Aa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acroevolu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nsists of the major changes in the history of lif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Earth is 4.6 billion years o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 appeared 3.8 billion years ago: as single celled prokaryotic 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500 million years ago, simple marine animals and plants had evolv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  The fossil record chronicles macro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28600" y="76320"/>
            <a:ext cx="8686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Georgia"/>
              </a:rPr>
              <a:t>MACRO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66760" y="1294920"/>
            <a:ext cx="861048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adiometric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(or carbon)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dating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based on the measurement of certain radioactive isotop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cientists can measure how much carbon is left in a fossil, and can then determine how old that fossil i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2  Radiometric Dating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600"/>
            <a:ext cx="853416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Evolu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is genetic change in a population over tim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harles Darwi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was the first scientist to propose the theory of evolution, in 1859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2438280" cy="270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752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66760" y="1219320"/>
            <a:ext cx="8610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structure that evolved in one context and was later adapted to another function is referred to a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exapt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: Dinosaurs evolved feathers as insulation against extreme temperatures, as birds evolved from small dinosaurs, feathers changed through natural selection to give fligh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6 Adaptation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191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648320" cy="3375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6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logeny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the evolutionary history of a group of organism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iologists construc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hylogenic tre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, which are diagrams that trace evolutionary relationship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6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9  Phylogen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econstructing phylogeny is part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systematic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, the study of biological diversity and classificati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axonomists assign a two-part name to each species (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binomial nomenclatur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rst name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gen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covers a group of related species (but they can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 breed!) Ex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om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cond name refers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peci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in a genus  Ex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apie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other Example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anis familiar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italics, genus capitalized, species no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0  Systematists classify organisms by phylogen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04920" y="944640"/>
            <a:ext cx="853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A review of taxonom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40" y="761760"/>
            <a:ext cx="8504280" cy="55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axonomy is the system of classifying living organism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ings = Kingdom (Anamali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lay = Phylum (Chordat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hess = Class (Mammali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n = Order (Primate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unny = Family (Hominida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reen = Genus (Homo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1463"/>
              </a:spcBef>
              <a:spcAft>
                <a:spcPts val="649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quares = Species (sapien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10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newer system recognizes two basically distinctive groups of prokaryot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1523880"/>
            <a:ext cx="495288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oma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omain Archa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third domain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Eukarya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cludes all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ingdoms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ukary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0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1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7" descr="&#13;15-14B-NL.gif                                                  000052A8_x0011_CRMT-TA/IPL drive              B7D09A82:"/>
          <p:cNvPicPr/>
          <p:nvPr/>
        </p:nvPicPr>
        <p:blipFill>
          <a:blip r:embed="rId1"/>
          <a:srcRect l="0" t="0" r="0" b="10838"/>
          <a:stretch/>
        </p:blipFill>
        <p:spPr>
          <a:xfrm>
            <a:off x="3881520" y="3124080"/>
            <a:ext cx="5033880" cy="2922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4117680" y="4572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911200" y="457200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RCHA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776360" y="457200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UKAR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936040" y="601992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arlies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mologous structur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evidence that organisms have evolved from a common ancestor (human arm, whale flipp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ntrast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nalogous similariti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evidence that organisms from different evolutionary lineages have underg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onvergent evolution (shark and dolphi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ir resemblances have resulted from living in similar environ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349"/>
              </a:spcBef>
              <a:spcAft>
                <a:spcPts val="601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A bat wing and a bee wing (they are NOT homologous, they are analogou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191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1  Homology vs. Analog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_x001e_15-12B-PrimateCladogram-NL.gif                                 0000002C_x001a_BiologyConcepts4eCIPL_8-15     B9599A75:"/>
          <p:cNvPicPr/>
          <p:nvPr/>
        </p:nvPicPr>
        <p:blipFill>
          <a:blip r:embed="rId1"/>
          <a:srcRect l="0" t="0" r="0" b="5558"/>
          <a:stretch/>
        </p:blipFill>
        <p:spPr>
          <a:xfrm>
            <a:off x="3809880" y="2057400"/>
            <a:ext cx="5116680" cy="2771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ystematists increasingly use molecular techniques t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if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ylogene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 sequences, DNA, and RNA of different organisms are compared to determine relationship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2  Molecular Biology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20120" y="6095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5.1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887640" y="19051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029560" y="1905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impanz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478560" y="19051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545600" y="19051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rangu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6760" y="1294920"/>
            <a:ext cx="861048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ades are evolutionary branches that consist of a common ancestor and all the organisms that evolved from i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phylogenic tree based on cladistic analysis is called a cladogram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191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5.13  Cladistic Analysi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42674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News Gothic MT"/>
              </a:rPr>
              <a:t>Quick Review Key term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600200"/>
            <a:ext cx="85341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Phylogeny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is the evolutionary history of a species or group of speci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Systematics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is the analytical approach to understanding the diversity and relationships of organism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News Gothic MT"/>
              </a:rPr>
              <a:t>Molecular Systematics</a:t>
            </a:r>
            <a:r>
              <a:rPr b="0" lang="en-US" sz="3000" spc="-1" strike="noStrike">
                <a:solidFill>
                  <a:srgbClr val="000000"/>
                </a:solidFill>
                <a:latin typeface="News Gothic MT"/>
              </a:rPr>
              <a:t> compares DNA and RNA of different organisms to determine evolutionary relationship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Reproductive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240" y="914040"/>
            <a:ext cx="85042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eproductive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prevent members of different species from producing viable, fertile offspring. (there are 2 type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1. Prezygotic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impede mating or hinder fertilization if mating does occur (BEFORE zygote form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2.Postzygotic barrier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prevent a hybrid zygote from developing into a viable, fertile adult (AFTER zygote forms) (Ex: Mule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observed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447920"/>
            <a:ext cx="86104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imilarities between living and fossil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e diversity of life on the Galápagos Islands, such as finches (birds) and giant torto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0120" y="6126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_x001c_13-01A-GalapagosTortoise.jpg                                   0000002A_x001a_BiologyConcepts4eCIPL_8-15     B9599A75:"/>
          <p:cNvPicPr/>
          <p:nvPr/>
        </p:nvPicPr>
        <p:blipFill>
          <a:blip r:embed="rId1"/>
          <a:stretch/>
        </p:blipFill>
        <p:spPr>
          <a:xfrm>
            <a:off x="4724280" y="3733920"/>
            <a:ext cx="3886200" cy="260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9006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Prezygotic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240" y="914040"/>
            <a:ext cx="8504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Habitat isolation: 2 species live in different habitats and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see each 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Temporal isolation: 2 species breed at different times of the day or 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Behavioral isolation: courtship rituals are species specific, and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attract other spec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Mechanical isolation: the sexual pieces do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fit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14"/>
              </a:spcBef>
              <a:spcAft>
                <a:spcPts val="675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. Gametic isolation: even if sex occurs, the egg and sperm can</a:t>
            </a:r>
            <a:r>
              <a:rPr b="0" lang="ja-JP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 me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Postzygotic barriers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 Reduced hybrid viability: hybrid babies die before reaching reproductive a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2. Reduced hybrid fertility: hybrid babies are sterile and can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 reprodu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 Hybrid breakdown: first generation babies can breed, but their children are infertile (F2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Georgia"/>
              </a:rPr>
              <a:t>How do new species form?</a:t>
            </a:r>
            <a:endParaRPr b="1" lang="en-US" sz="33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838080"/>
            <a:ext cx="8504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llopatric speciation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ther country,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a population is geographically divided into 2 isolated subpopulations, which eventually become 2 new speci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Sympatric speci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ame country,</a:t>
            </a:r>
            <a:r>
              <a:rPr b="0" lang="ja-JP" sz="30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2 new species develop in the same are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tations such as polyploidy (extra set of chromosom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bitat different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xual se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Adaptive Radia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daptive radi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the evolution of many diversely adapted species from a common ancestor upon introduction to various new environmental opportunities and challeng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xample: Hawaiian plant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5" descr="http://www.biokurs.de/skripten/bilder/tanagra.jpg"/>
          <p:cNvPicPr/>
          <p:nvPr/>
        </p:nvPicPr>
        <p:blipFill>
          <a:blip r:embed="rId1"/>
          <a:stretch/>
        </p:blipFill>
        <p:spPr>
          <a:xfrm>
            <a:off x="5638680" y="3505320"/>
            <a:ext cx="3333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Georgia"/>
              </a:rPr>
              <a:t>Extras</a:t>
            </a:r>
            <a:endParaRPr b="1" lang="en-US" sz="33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240" y="990360"/>
            <a:ext cx="85042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unctuated equilibrium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lots of new species appear all at once in history (Cambrian explosion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Kin Selec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: refers to strategies in evolution that favor the reproductive success of an organism's relatives, even at a cost to their own survival. (Altruistic Behavior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5" descr="http://upload.wikimedia.org/wikipedia/commons/thumb/4/4a/Todd_Huffman_-_Lattice_(by).jpg/290px-Todd_Huffman_-_Lattice_(by).jpg"/>
          <p:cNvPicPr/>
          <p:nvPr/>
        </p:nvPicPr>
        <p:blipFill>
          <a:blip r:embed="rId1"/>
          <a:stretch/>
        </p:blipFill>
        <p:spPr>
          <a:xfrm>
            <a:off x="5867280" y="4419720"/>
            <a:ext cx="27622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concluded that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Earth was old and constantly changing (4.6 billion years ol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ing things also change (evolve) over generation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ing things are related to animals and plants that used to exist but are now extin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Evidence for 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981080"/>
            <a:ext cx="853416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ssil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iogeograph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parative Anatom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parative Embryolo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lecular Biolo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Natural Selec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9" name="Rectangle 1026"/>
          <p:cNvSpPr/>
          <p:nvPr/>
        </p:nvSpPr>
        <p:spPr>
          <a:xfrm>
            <a:off x="152280" y="2438280"/>
            <a:ext cx="861084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Darwin concluded that individuals best suited for a particular environment are more likely to survive and reproduce than those less well adap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Aka: survival of the fittest (giraffe examp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27"/>
          <p:cNvSpPr/>
          <p:nvPr/>
        </p:nvSpPr>
        <p:spPr>
          <a:xfrm>
            <a:off x="228600" y="914400"/>
            <a:ext cx="86104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saw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natural selec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as the basic mechanism of 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s a result, the proportion of individuals with favorable characteristics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Popula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gradually change in response to the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Phenotyp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that are better reproduce more, eventually, better genotypes become more comm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63868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arwin also saw that when humans choose organisms with specific characteristics as breeding stock, they are performing the role of the environme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04920" y="3352680"/>
            <a:ext cx="487656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his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rtifici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990000"/>
              </a:buClr>
              <a:buFont typeface="Georgi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Example of artificial selection in plants: five vegetables derived from wild must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96080" y="62024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gure 13.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_x0017_13-04A1-WildMustard.jpg                                        0000002A_x001a_BiologyConcepts4eCIPL_8-15     B9599A75:"/>
          <p:cNvPicPr/>
          <p:nvPr/>
        </p:nvPicPr>
        <p:blipFill>
          <a:blip r:embed="rId1"/>
          <a:srcRect l="0" t="12107" r="0" b="0"/>
          <a:stretch/>
        </p:blipFill>
        <p:spPr>
          <a:xfrm>
            <a:off x="6259680" y="380880"/>
            <a:ext cx="2579400" cy="330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_x001f_13-04A2-VegetablesFrMustard.jpg                                0000002A_x001a_BiologyConcepts4eCIPL_8-15     B9599A75:"/>
          <p:cNvPicPr/>
          <p:nvPr/>
        </p:nvPicPr>
        <p:blipFill>
          <a:blip r:embed="rId2"/>
          <a:stretch/>
        </p:blipFill>
        <p:spPr>
          <a:xfrm>
            <a:off x="5410080" y="3860640"/>
            <a:ext cx="34354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66760" y="1599840"/>
            <a:ext cx="864864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gene pool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the total collection of genes in a population at any one tim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Microevolution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 a change in the relative frequencies of alleles in a gene poo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ew mutations are constantly being generated in a gene pool, by accident or as a response to environmental chang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66760" y="75960"/>
            <a:ext cx="86104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5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Times New Roman"/>
              </a:rPr>
              <a:t>13.7  Microevolution</a:t>
            </a:r>
            <a:endParaRPr b="1" lang="en-US" sz="3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6:30:00Z</dcterms:created>
  <dc:creator>Allison Barron</dc:creator>
  <dc:description/>
  <dc:language>en-US</dc:language>
  <cp:lastModifiedBy>Allison Barron</cp:lastModifiedBy>
  <dcterms:modified xsi:type="dcterms:W3CDTF">2015-04-15T17:43:55Z</dcterms:modified>
  <cp:revision>4</cp:revision>
  <dc:subject/>
  <dc:title>AP Test Evolution/Classifcation Review</dc:title>
</cp:coreProperties>
</file>